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F40-5D13-4F52-89E4-BD9EF677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C36-BC1D-42FB-A0D0-3AB879AB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4E8-157D-4701-ADF4-85339524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206-2AFF-48BD-AFFE-1DC6112D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2E6-C374-445A-948B-AB9E79A3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879-36C6-45E9-A8B4-E910770B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A6A-8679-4A54-A7D2-F6C8EE10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198-C5D9-4296-9839-831CB999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6D5-1CB4-448A-8E51-ADF4548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B5A-6B21-4BBF-91C9-13742E5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299-5467-4E06-A7E6-C7A5D5D8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422-0A7E-4FD6-BF35-BCF7849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782-1FD6-4F25-ACF5-FCF0D1134D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519"/>
                </a:solidFill>
                <a:latin typeface="Baskerville Old Face"/>
              </a:rPr>
              <a:t>Liceo</a:t>
            </a:r>
            <a:r>
              <a:rPr b="0" lang="en-US" sz="4400" spc="-1" strike="noStrike">
                <a:solidFill>
                  <a:srgbClr val="d9051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90519"/>
                </a:solidFill>
                <a:latin typeface="Baskerville Old Face"/>
              </a:rPr>
              <a:t>Francisco del Rosario Sánchez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Integrant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04-15-18-21-24-31-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Profesor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Alba Castil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052640"/>
            <a:ext cx="5761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kerville Old Face"/>
              </a:rPr>
              <a:t>Presentación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920" y="404640"/>
            <a:ext cx="6842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 Estados U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5989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4057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Estados Unidos los dominicanos son discriminados muchas veces por el color de piel, su cultura y su forma de ser y expresar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92360" y="1628640"/>
            <a:ext cx="525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 Puerto Ric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6720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Puerto Rico son considerados por muchos como ciudadanos de tercera clase y se les asocia con el aumento de la delincuencia en la is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959280" cy="26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España son mirados de reojo y las mujeres dominicanas clasificadas como sospechosas de prostitución.  No pocas veces mujeres dominicanas que visitan España han sido desconsideradas en los aeropuerto por las autoridades migratoria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ff"/>
                </a:solidFill>
                <a:latin typeface="Baskerville Old Face"/>
              </a:rPr>
              <a:t>En los países mas desarrollados los inmigrantes latinos americanos incluyendo los dominicanos son tratados con rechazos asegurando qu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d90519"/>
                </a:solidFill>
                <a:latin typeface="Baskerville Old Face"/>
              </a:rPr>
              <a:t>“llegan al país quitarle los trabajos a los ciudadanos, porque trabajan por centavos, dañan el mercado laboral; son indocumentados que van a utilizar los servicios públicos del país; son delincuentes y peligrosos; no respetan las leyes y andan por las calles como si este fuera el país de ellos; el colmo es que también reclaman derechos””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Baskerville Old Face"/>
              </a:rPr>
              <a:t>Una gran mayoría de los latinos de Estados Unidos considera que la discriminación es grave en la comunidad y una tercera parte manifiesta que conoce casos concretos de discriminación, si es que no la ha sufrido en carne prop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Baskerville Old Face"/>
              </a:rPr>
              <a:t>En resumen, el 82% dice que la discriminación es el principal problema que les impide tener éxito en general, a la vez que el 83% atribuye la discriminación que sufren a los propios latinos y casi la mitad, el 47%, califica de severo el proble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los Estados Unidos la discriminación tiene un límite, que son los derechos humanos, cuando las prácticas discriminatorias llegan a su frontera, hay quienes hacen oír su voz y la detienen, como lo hizo Cesar E. Chávez en los años 60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d9051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519"/>
                </a:solidFill>
                <a:latin typeface="Baskerville Old Face"/>
              </a:rPr>
              <a:t>En conclusión</a:t>
            </a:r>
            <a:r>
              <a:rPr b="0" lang="en-US" sz="3200" spc="-1" strike="noStrike">
                <a:solidFill>
                  <a:srgbClr val="3399ff"/>
                </a:solidFill>
                <a:latin typeface="Baskerville Old Face"/>
              </a:rPr>
              <a:t> podemos aprender a través de este tema que la discriminación a existido siempre, tanto en países desarrollados como en nuestro propio país, es una realidad que forma parte de nuestro diario vivir y lo es también de nuestro cultura; pero que bueno que también existen los derechos humanos que de alguna forma u otra nos libra de algunos de los maltratos que nos hacen por ser latinos o inferiores a otros paí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519"/>
                </a:solidFill>
                <a:latin typeface="Baskerville Old Face"/>
              </a:rPr>
              <a:t>Situación</a:t>
            </a:r>
            <a:r>
              <a:rPr b="1" lang="en-US" sz="4000" spc="-1" strike="noStrike">
                <a:solidFill>
                  <a:srgbClr val="d90519"/>
                </a:solidFill>
                <a:latin typeface="Baskerville Old Face"/>
              </a:rPr>
              <a:t> </a:t>
            </a:r>
            <a:r>
              <a:rPr b="0" lang="en-US" sz="4000" spc="-1" strike="noStrike">
                <a:solidFill>
                  <a:srgbClr val="d90519"/>
                </a:solidFill>
                <a:latin typeface="Baskerville Old Face"/>
              </a:rPr>
              <a:t>de Discriminación de la Sociedad Dominicana ante América y el Mundo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079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63640" y="2349360"/>
            <a:ext cx="626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d9051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skerville Old Face"/>
              </a:rPr>
              <a:t>Gracias!!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d9051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519"/>
                </a:solidFill>
                <a:latin typeface="Baskerville Old Face"/>
              </a:rPr>
              <a:t>Aprendizaje esperado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omprender el proceso de discriminación en el mu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-Identificar los elementos que lo hacen parte de la c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0519"/>
                </a:solidFill>
                <a:latin typeface="Baskerville Old Face"/>
              </a:rPr>
              <a:t>Discriminació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34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Discriminar significa diferenciar, distinguir, separar una cosa de otra</a:t>
            </a:r>
            <a:r>
              <a:rPr b="0" lang="es-ES_tradnl" sz="3600" spc="-1" strike="noStrike">
                <a:solidFill>
                  <a:srgbClr val="3399ff"/>
                </a:solidFill>
                <a:latin typeface="Baskerville Old Face"/>
              </a:rPr>
              <a:t>.</a:t>
            </a: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 La discriminación es una situación en la que una persona o grupo es tratada de forma desfavorable a causa de prejuicios, generalmente por pertenecer a una categoría social distin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La mayor parte de los países practican la discriminación contra extranjeros y otras minorías dentro de sus fronteras. Esta discriminación puede ser por razones d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R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ex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Relig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Rango Socioeconóm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scapac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el racismo y la xenofobia son problemas graves que tienen planteados en la actualidad países de mayor actividad económica como son los Estados Unidos y países de Europa.</a:t>
            </a:r>
            <a:r>
              <a:rPr b="0" lang="es-ES_tradnl" sz="3600" spc="-1" strike="noStrike">
                <a:solidFill>
                  <a:srgbClr val="3399ff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Se estima que cerca de un 12 por ciento de los dominicanos viven en países extranjeros.  casi un millón en los Estados Unidos, unos 78 mil en Puerto Rico y unos 50 mil en España, por mencionar solo los tres grupos mas grand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1:57:54Z</dcterms:created>
  <dc:creator>WinuE</dc:creator>
  <dc:description/>
  <dc:language>en-US</dc:language>
  <cp:lastModifiedBy>dennis</cp:lastModifiedBy>
  <dcterms:modified xsi:type="dcterms:W3CDTF">2011-03-15T03:08:01Z</dcterms:modified>
  <cp:revision>6</cp:revision>
  <dc:subject/>
  <dc:title>Diapositiva 1</dc:title>
</cp:coreProperties>
</file>